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F270-0672-4E1F-83A9-49FA5549E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C990-A9C6-4626-9064-DDE98E52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A8FB-5323-49F6-AB49-218B09BD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5165-B875-4D3A-A7B7-D33356D0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ED43-9C11-4584-A454-84CE0C8C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1BCD-5D1B-451F-B3FF-8755B64D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0938-4679-4C1B-97B2-C6296D91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66DF-211B-49BB-8BD6-B3C9D495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70BC-F44B-4F61-A55E-72E106CC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351A-A678-4C42-B599-8C27D580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11B5-B104-4E4F-837E-ED278110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E7BF-5703-4DA3-A9F2-37455F97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BEC0-67E5-4FB3-A950-58CC2585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98C3-7238-4CD3-892E-77250045A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6120" y="441972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3° S, 27° 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5760" y="4419720"/>
            <a:ext cx="53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6.5° S, 22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53388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57960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6253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5760" y="4419720"/>
            <a:ext cx="50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 What city is located at 3° S, 28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CongoDemAll" descr=""/>
          <p:cNvPicPr/>
          <p:nvPr/>
        </p:nvPicPr>
        <p:blipFill>
          <a:blip r:embed="rId2"/>
          <a:stretch/>
        </p:blipFill>
        <p:spPr>
          <a:xfrm>
            <a:off x="1413000" y="276120"/>
            <a:ext cx="628632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58388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62960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28880" y="4940280"/>
            <a:ext cx="8148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What is the latitude for the most nor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28880" y="4940280"/>
            <a:ext cx="80625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What is the latitude for the most sou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028880" y="4938840"/>
            <a:ext cx="82501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What is the longitude for the most west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8640" y="4938840"/>
            <a:ext cx="81802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What is the longitude for the most eastern part of Africa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116080" y="4952880"/>
            <a:ext cx="4772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at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100240" y="4952880"/>
            <a:ext cx="55339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long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0352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363680" y="4952880"/>
            <a:ext cx="6256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is the absolute location of Kinsha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 and 32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 and 15.4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 and 7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3800" y="5388120"/>
            <a:ext cx="244800" cy="30456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865">
                <a:moveTo>
                  <a:pt x="0" y="0"/>
                </a:moveTo>
                <a:lnTo>
                  <a:pt x="21600" y="0"/>
                </a:lnTo>
                <a:lnTo>
                  <a:pt x="21600" y="26865"/>
                </a:lnTo>
                <a:lnTo>
                  <a:pt x="0" y="26865"/>
                </a:lnTo>
                <a:close/>
              </a:path>
              <a:path fill="lightenLess" w="21600" h="26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65">
                <a:moveTo>
                  <a:pt x="21600" y="0"/>
                </a:moveTo>
                <a:lnTo>
                  <a:pt x="21600" y="26865"/>
                </a:lnTo>
                <a:lnTo>
                  <a:pt x="20200" y="25465"/>
                </a:lnTo>
                <a:lnTo>
                  <a:pt x="20200" y="1400"/>
                </a:lnTo>
                <a:close/>
              </a:path>
              <a:path fill="darkenLess" w="21600" h="26865">
                <a:moveTo>
                  <a:pt x="21600" y="26865"/>
                </a:moveTo>
                <a:lnTo>
                  <a:pt x="0" y="26865"/>
                </a:lnTo>
                <a:lnTo>
                  <a:pt x="1400" y="25465"/>
                </a:lnTo>
                <a:lnTo>
                  <a:pt x="20200" y="25465"/>
                </a:lnTo>
                <a:close/>
              </a:path>
              <a:path fill="lighten" w="21600" h="26865">
                <a:moveTo>
                  <a:pt x="0" y="26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6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800" y="583092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3800" y="625464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6120" y="4419720"/>
            <a:ext cx="52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What city is located at 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, 25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College of Veterinary Medicine</cp:lastModifiedBy>
  <dcterms:modified xsi:type="dcterms:W3CDTF">2007-07-31T18:42:44Z</dcterms:modified>
  <cp:revision>483</cp:revision>
  <dc:subject/>
  <dc:title>Investigate the Mystery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14000000000001023620</vt:lpwstr>
  </property>
</Properties>
</file>